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666-6873-42F0-B8F4-37B2AD84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526-4F83-4925-8743-21B65F8D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935-BA52-4B3D-A6D1-871DBE67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6DF-FE1E-4A15-AD96-D97D3D85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0D07-0EB0-476C-BDA8-27FD2DC7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84F1-C64C-4ED1-956B-DDEB7397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7F26-D63F-4FBF-9D15-187AD806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6262-275D-42A1-91B1-16D14896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775-2B18-4DCD-8EC9-E8650275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29CC-6ECF-4BC7-BE6C-8D0D63BF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781D-ADDA-463F-9D4E-82BD6AA8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AD5-D5EA-4A75-930F-D84CD63E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D97D-6756-4D9B-8811-EBE38855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0FAE-221E-4FEF-92FE-B0B7C5D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E295-8676-4A71-AB1D-8C00BECD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9E53-E39F-43AE-AA83-62734E2B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E635-2FAF-4075-ACAF-F2CA8905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AA9-0C19-4400-AF9A-4275FF4C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596-2B73-4BDE-8228-281E35F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22F-5A7D-4063-8ACF-33FD7281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D4B-4FA1-4B6E-90B3-BBFBFC01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992-2FC6-4A14-92A5-D80D79C5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C03-CA85-4A36-8B33-C053A3E0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480-BD3A-4714-B2EE-189B528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0B9B-5FAC-4A81-A6F1-F45EC16ED742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2" descr="谢老师PPT蓝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7DA9-C2F3-453A-AA8D-5B69E93BFA82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2"/>
          <p:cNvSpPr/>
          <p:nvPr/>
        </p:nvSpPr>
        <p:spPr>
          <a:xfrm>
            <a:off x="971640" y="944640"/>
            <a:ext cx="7345440" cy="381024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文学与新闻传播学院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迎评工作方案</a:t>
            </a:r>
            <a:endParaRPr b="1" lang="en-US" sz="66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36"/>
          <p:cNvSpPr/>
          <p:nvPr/>
        </p:nvSpPr>
        <p:spPr>
          <a:xfrm>
            <a:off x="0" y="260280"/>
            <a:ext cx="9144000" cy="604836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试卷和毕业论文整改的几条规定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务必按学院统一布置的时间节点和要求完成自查和整改，并记录在案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无故缺席，迟交或缺交者予以通报批评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经学院复查仍有问题的务必随叫随到，及时再整改。自查（个人整改）不认真，不及时，问题严重者，予以通报批评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6"/>
          <p:cNvSpPr/>
          <p:nvPr/>
        </p:nvSpPr>
        <p:spPr>
          <a:xfrm>
            <a:off x="468360" y="549360"/>
            <a:ext cx="8280360" cy="431964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三）上课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组织实施：刘澍心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基本要求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预计专家听课时间：周一至周三） 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6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带学期教案、教材、教学日历和成绩册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严格按教学日历和教学大纲上课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提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分钟进教室，检测教学设备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注意着装、形象、教态及课堂规范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师生务必关闭手机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课件要精致，要适度，要能起辅助作用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要有板书设计；板书精美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要布置预习；要熟悉学生；师生要互动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每堂课都要有导入；要有课后思考题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要准确把握时间，要有预案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6"/>
          <p:cNvSpPr/>
          <p:nvPr/>
        </p:nvSpPr>
        <p:spPr>
          <a:xfrm>
            <a:off x="395280" y="620640"/>
            <a:ext cx="8497800" cy="554508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备课与试教安排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-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备课，课程组集体备课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-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分教研室（含院外教师）试教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9-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学院组织试教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学院组织再试教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下午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二）学院组织教案检查（有上课任务教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-1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的教案）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6"/>
          <p:cNvSpPr/>
          <p:nvPr/>
        </p:nvSpPr>
        <p:spPr>
          <a:xfrm>
            <a:off x="395280" y="189000"/>
            <a:ext cx="8424720" cy="640872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备课与试教的几条规定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教师个人申请与教研室指定试教结合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由学院组织指定部分教师试教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试教作为教研活动，原则上要求人人参加，由教研室主任记录在案，与年终考核和绩效工资挂钩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对教案不合格的予以通报批评并促其整改，同时评选出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5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的优秀教案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6"/>
          <p:cNvSpPr/>
          <p:nvPr/>
        </p:nvSpPr>
        <p:spPr>
          <a:xfrm>
            <a:off x="179280" y="549360"/>
            <a:ext cx="8785440" cy="460836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四）访谈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组织实施：林光明、陈天涯（学生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基本要求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熟悉学校基本情况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熟悉学院基本情况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36"/>
          <p:cNvSpPr/>
          <p:nvPr/>
        </p:nvSpPr>
        <p:spPr>
          <a:xfrm>
            <a:off x="611280" y="260280"/>
            <a:ext cx="8137440" cy="511344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具体措施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认真阅读评估宣传手册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关注学校和学院网站，以及中文系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QQ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群和手机信息发布的有关评估工作的通知、文件等。主要包括：学校自评报告、数据分析报告、学院综述报告等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6"/>
          <p:cNvSpPr/>
          <p:nvPr/>
        </p:nvSpPr>
        <p:spPr>
          <a:xfrm>
            <a:off x="684360" y="260280"/>
            <a:ext cx="7848360" cy="633744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五）其他工作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教学档案（龙永干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教研室和实验室（龙永干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综述报告（刘澍心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网站建设（刘澍心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学生教育（陈天涯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宣传接待（陈天涯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教师动员（林光明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统筹协调（林光明 刘澍心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6"/>
          <p:cNvSpPr/>
          <p:nvPr/>
        </p:nvSpPr>
        <p:spPr>
          <a:xfrm>
            <a:off x="179280" y="115920"/>
            <a:ext cx="8785440" cy="640872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六）奖惩条例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每通报批评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次扣发绩效工资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0.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个绩点。通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次以上，取消评优评先（含教研室）和晋升职称资格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评估中认真尽责、有贡献、受到学院和学校表扬的教职工上浮平均绩效工资≤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0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；反之下浮≤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0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按比例评选出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5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的评估先进工作者，年终考核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分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539640" y="692280"/>
            <a:ext cx="8136000" cy="4537080"/>
          </a:xfrm>
          <a:prstGeom prst="flowChartAlternateProcess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在专家正式入校考察期间，全体教职员工须服从、服务于学校评估工作的需要和安排，统一思想，听从指挥，通力协作，一切以高质量完成专家考察任务为出发点和落脚点。 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4"/>
          <p:cNvSpPr/>
          <p:nvPr/>
        </p:nvSpPr>
        <p:spPr>
          <a:xfrm>
            <a:off x="324000" y="692280"/>
            <a:ext cx="8424720" cy="4608360"/>
          </a:xfrm>
          <a:prstGeom prst="ellipse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离教育部本科教学工作合格评估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专家入校考察还有</a:t>
            </a: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天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6"/>
          <p:cNvSpPr/>
          <p:nvPr/>
        </p:nvSpPr>
        <p:spPr>
          <a:xfrm>
            <a:off x="539640" y="692280"/>
            <a:ext cx="8280360" cy="4752720"/>
          </a:xfrm>
          <a:prstGeom prst="flowChartAlternateProcess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专家在校期间，全校教职工须严守工作纪律，严格请假制度（一般不得离开长沙，须在校待命）；所有教职工须保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小时通信畅通，保证随时听从调遣和安排（上课、访谈、座谈、会议等活动中，手机须关机或设为静音）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36"/>
          <p:cNvSpPr/>
          <p:nvPr/>
        </p:nvSpPr>
        <p:spPr>
          <a:xfrm>
            <a:off x="250920" y="404640"/>
            <a:ext cx="8642160" cy="5112000"/>
          </a:xfrm>
          <a:prstGeom prst="flowChartAlternateProcess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全体教职员工须熟悉学校自评报告及数据分析报告等材料，掌握其中的核心数据和典型素材，以主人翁的姿态和满腔的热情迎接专家，充分展现爱校如家、严谨求实、开拓创新、充满朝气的精神风貌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         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湖南第一师范学院本科教学工作合格评估    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专家入校考察实施方案（湘一师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【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2015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】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3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号）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6"/>
          <p:cNvSpPr/>
          <p:nvPr/>
        </p:nvSpPr>
        <p:spPr>
          <a:xfrm>
            <a:off x="468360" y="765000"/>
            <a:ext cx="7991280" cy="4176720"/>
          </a:xfrm>
          <a:prstGeom prst="flowChartAlternateProcess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对评估工作中不认真、不到位、不在状态、出差错的人员，严肃处理！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肖湘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1328760" y="475920"/>
            <a:ext cx="6343560" cy="913680"/>
          </a:xfrm>
          <a:prstGeom prst="roundRect">
            <a:avLst>
              <a:gd name="adj" fmla="val 16667"/>
            </a:avLst>
          </a:prstGeom>
          <a:solidFill>
            <a:srgbClr val="632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、专家评什么？ 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84" name="组合 10" descr=""/>
          <p:cNvPicPr/>
          <p:nvPr/>
        </p:nvPicPr>
        <p:blipFill>
          <a:blip r:embed="rId1"/>
          <a:stretch/>
        </p:blipFill>
        <p:spPr>
          <a:xfrm>
            <a:off x="2687760" y="2305080"/>
            <a:ext cx="3768480" cy="32115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"/>
          <p:cNvSpPr/>
          <p:nvPr/>
        </p:nvSpPr>
        <p:spPr>
          <a:xfrm>
            <a:off x="971640" y="1989000"/>
            <a:ext cx="936360" cy="403236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4032360"/>
              <a:gd name="textAreaBottom" fmla="*/ 3986640 h 4032360"/>
            </a:gdLst>
            <a:ahLst/>
            <a:rect l="textAreaLeft" t="textAreaTop" r="textAreaRight" b="textAreaBottom"/>
            <a:pathLst>
              <a:path w="21600" h="92991">
                <a:moveTo>
                  <a:pt x="3600" y="0"/>
                </a:moveTo>
                <a:arcTo wR="3600" hR="3600" stAng="16200000" swAng="-5400000"/>
                <a:lnTo>
                  <a:pt x="0" y="89391"/>
                </a:lnTo>
                <a:arcTo wR="3600" hR="3600" stAng="10800000" swAng="-5400000"/>
                <a:lnTo>
                  <a:pt x="18000" y="929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人人都是评估对象</a:t>
            </a:r>
            <a:endParaRPr b="1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6" name="左右箭头 12"/>
          <p:cNvSpPr/>
          <p:nvPr/>
        </p:nvSpPr>
        <p:spPr>
          <a:xfrm>
            <a:off x="6372360" y="3716280"/>
            <a:ext cx="863640" cy="3603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7236000" y="1989000"/>
            <a:ext cx="936360" cy="403236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4032360"/>
              <a:gd name="textAreaBottom" fmla="*/ 3986640 h 4032360"/>
            </a:gdLst>
            <a:ahLst/>
            <a:rect l="textAreaLeft" t="textAreaTop" r="textAreaRight" b="textAreaBottom"/>
            <a:pathLst>
              <a:path w="21600" h="92991">
                <a:moveTo>
                  <a:pt x="3600" y="0"/>
                </a:moveTo>
                <a:arcTo wR="3600" hR="3600" stAng="16200000" swAng="-5400000"/>
                <a:lnTo>
                  <a:pt x="0" y="89391"/>
                </a:lnTo>
                <a:arcTo wR="3600" hR="3600" stAng="10800000" swAng="-5400000"/>
                <a:lnTo>
                  <a:pt x="18000" y="929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人人都是追责对象</a:t>
            </a:r>
            <a:endParaRPr b="1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8" name="左右箭头 14"/>
          <p:cNvSpPr/>
          <p:nvPr/>
        </p:nvSpPr>
        <p:spPr>
          <a:xfrm>
            <a:off x="1908000" y="3716280"/>
            <a:ext cx="863640" cy="3603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36"/>
          <p:cNvSpPr/>
          <p:nvPr/>
        </p:nvSpPr>
        <p:spPr>
          <a:xfrm>
            <a:off x="0" y="0"/>
            <a:ext cx="9144000" cy="90792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专家进校考察日程表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2340000"/>
                <a:gridCol w="2232000"/>
                <a:gridCol w="4572000"/>
              </a:tblGrid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   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时    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工作安排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预备会议、调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56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8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00-8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见面会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30-9:4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集中考察（预计）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9:45-17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自主考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会议、查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—20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三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00-17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自主考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会议、查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6"/>
          <p:cNvSpPr/>
          <p:nvPr/>
        </p:nvSpPr>
        <p:spPr>
          <a:xfrm>
            <a:off x="0" y="0"/>
            <a:ext cx="9144000" cy="90792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诊断（模拟）考察日程表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2340000"/>
                <a:gridCol w="2232000"/>
                <a:gridCol w="4572000"/>
              </a:tblGrid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   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时    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工作安排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预备会议、调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56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00-8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见面会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30-9:4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集中考察（预计）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9:45-17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自主考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会议、查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4—1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三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00-17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自主考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会议、查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328760" y="404280"/>
            <a:ext cx="6343560" cy="913680"/>
          </a:xfrm>
          <a:prstGeom prst="roundRect">
            <a:avLst>
              <a:gd name="adj" fmla="val 16667"/>
            </a:avLst>
          </a:prstGeom>
          <a:solidFill>
            <a:srgbClr val="632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、我们怎么做？ 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4" name="AutoShape 36"/>
          <p:cNvSpPr/>
          <p:nvPr/>
        </p:nvSpPr>
        <p:spPr>
          <a:xfrm>
            <a:off x="324000" y="1628640"/>
            <a:ext cx="8424720" cy="381636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一）试卷整改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组织实施：林光明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基本要求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严格按学校规定的有关命题、阅卷、考试文档整理的要求和规范进行整改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36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整改日程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复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，复查有问题的周六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）学院组织集体整改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周六周日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-1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）学院组织集体自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和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根据诊断评估反馈整改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；学院组织复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和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，复查有问题的周日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）学院组织集体整改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终审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36"/>
          <p:cNvSpPr/>
          <p:nvPr/>
        </p:nvSpPr>
        <p:spPr>
          <a:xfrm>
            <a:off x="539640" y="692280"/>
            <a:ext cx="7993080" cy="431928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二）论文整改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组织实施：龙永干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整改要求：论文批改规范扫描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论文修改工作要点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6"/>
          <p:cNvSpPr/>
          <p:nvPr/>
        </p:nvSpPr>
        <p:spPr>
          <a:xfrm>
            <a:off x="179280" y="333360"/>
            <a:ext cx="8785440" cy="612000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整改日程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完成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届论文自查，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完成复查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完成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届论文自查，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完成复查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完成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届论文自查，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完成复查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终审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届论文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4-07T08:14:23Z</dcterms:modified>
  <cp:revision>186</cp:revision>
  <dc:subject/>
  <dc:title>幻灯片 1</dc:title>
</cp:coreProperties>
</file>